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9C46-BE97-4737-9005-B37D3388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5D15-3E92-410C-A015-3E0394D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6D08-D9F0-40C7-AB4F-79A7523B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745D-B63F-4A95-A2BE-5FBBCFC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F8E-BC21-4BC4-A14B-44E5E0A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D31-811E-4CEF-A92E-E1C78D6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9B6B-33EC-4EF6-971E-EC952A8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6A37-1F58-4A0C-B1EF-2BA1B49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E2C-D864-44A7-9DC3-9DBB4070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71F-45DB-4F83-8CE4-4E30E067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BEA-8B4E-4390-9CC9-831CB0A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B102-9BC5-4560-B461-5FD92CE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A93D-4D20-4A1A-954E-ED7B35C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D59A-EA48-4A98-B97C-1890C394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3111-4862-4F73-BE04-DC0B494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D2AA-609B-4340-97C7-7A84B04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BA88-EBC7-4F65-9F21-34E53D1A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9390-F07D-4C28-95E9-C491DBE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FFC1-1311-40F6-9817-C3557C3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A87E-E31F-4278-86AE-76DA6F2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0CFB-AB3E-443C-8391-42B8A67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607-BBE4-40E3-B1C6-38C05AA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D4E5-66FB-47B5-BEA3-0F646F4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BD95-AF57-4CA4-9EBB-8BDCE70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78C0-A594-4315-9F66-415E806B9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62C-FF4E-4DC3-851A-85ACAD104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hapter 1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story of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taste emer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Randolph Hearst – New York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on Welles – Citizen K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Pulitzer – New York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came from cartoon of Yellow K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ellow Journalism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lie Bly – worked for the World and made news he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hen Glass – Shattered 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y said she went to an insane asy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lso said she went around the world in 7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ed to lure America into the war between Cuba and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t said “You furnish the pictures, and I’ll furnish the wa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S. Maine was attacked – p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got into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ckrak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krakers – people who called for change i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zine cam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lure’s, Collier’s, Munsey’s, Saturday Evening P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fought for societal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nority Med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er – founded in 19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rt S. Abbott – parents were sl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-Americans should move north for better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 – Ebony started – popular mag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Hispanic magazines cropped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28 – Cherokee Phoenix – first Native American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kota Times – Tim Giago – Rapid City, 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vent of Rad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06 – Dr. Lee De Forest came up with vacuum tube for rad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16 – De Forest first radio broadca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26 – National Broadcasting Company – NB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27 – Columbia Broadcasting Company – CB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45 – Part of NBC sold off – named American Broadcasting Company – AB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dio Act of 1927 – Federal Radio Commiss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erunner to Federal Communications Commission (FCC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wer over radio and telev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dios = H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def6"/>
                </a:solidFill>
                <a:latin typeface="Arial"/>
              </a:rPr>
              <a:t>Shock Jocks and Radio Talk Shows</a:t>
            </a:r>
            <a:endParaRPr b="0" lang="en-US" sz="3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erything good, something bad has to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ard Stern, Rush Limbaugh, Don I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y journal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act of Telev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0s – first television news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 1960s – more than 60 million television sets in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away radio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s utilize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Village – watching an event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C, CBS, N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N, FOX, MSNBC, PBS, C-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nsationalism on T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0s – return to yellow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more newspapers and magazines had trash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bleeds, it lea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ge disaster in Minneapolis, Death of Michael Jackson – too mu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 – Littleton,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s on the 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rtage of space – articles can be as long as someone w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your thoughts on the inter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read news on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be anything – CNN, MLB, ESPN, NFL, 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formation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has greatly affected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elieve the change is great while others believe it is min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 Times now has a smaller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sh vs. The Good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 doesn’t gathe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s need to know everything – p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uter Assisted Re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are accessible all over the world to journ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Dakota Dept. of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urnalism Tod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simply don’t read papers any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of online jour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go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downfalls of not having a paper copy of a news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the future holds in st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arly Newspap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goes – letters, es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k Occur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ewspaper in Boston (16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stopped by the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4 – continuous paper approv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by John Camp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 News-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tion – the stirring of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truth, the greater the lib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5 – New York Weekly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Peter Zenger printed articles by the gover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gui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w Hamilton defended Zenger – p. 5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ilton appealed to the jury – ‘Not guilt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rth of the N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al Press played vital role in the birth of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775 there were 37 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elieve there would not have been a revolution without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re other times the press has affected thought?  (Airplane use by Gov. Ro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rth of the Nation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s freedom of speech, religion, press, assembly, redress of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3 – Pennsylvania P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aily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77 – Students Gaze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tudent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enny Pr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apers carried very littl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3 – New York Sun – Benjamin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ed full of news and sold for a pe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ny Press sold on the street and catered to revolution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began taking a larger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1 – New York Tribune – Horace Greeley – 200,000 subscr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enny Press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played roles in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s became better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1 – Henry Ray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New York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paper in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Effect of the Telegrap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Civil War, telegraphs helped transmit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ted pyramid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mportan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bor News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runner to the Associated Press (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news to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19:55:27Z</dcterms:created>
  <dc:creator>jvanengen</dc:creator>
  <dc:description/>
  <dc:language>en-US</dc:language>
  <cp:lastModifiedBy>jvanengen</cp:lastModifiedBy>
  <dcterms:modified xsi:type="dcterms:W3CDTF">2009-07-23T20:28:54Z</dcterms:modified>
  <cp:revision>8</cp:revision>
  <dc:subject/>
  <dc:title>Chapter1</dc:title>
</cp:coreProperties>
</file>